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D0F-7A4C-4DC0-A742-9AC4AFA9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61D-2022-40FF-9759-3DF4B1DB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F29-5475-4D6E-811D-67D638D0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4B5-E0C9-437E-9552-E50DE97F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10F-9C94-43E7-B391-3E9AACB1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555E-313C-4DE0-AFE5-5B3761A8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903-0561-490C-8420-863FB5AF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FFA-1396-48DD-9974-85082E57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03D-50F9-44D1-AA90-5C2F3131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C80-D599-423F-A958-0BB1A6B1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C84A-FF7A-41BA-960F-92987E38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2D6-0D06-450C-B3E7-69A28C9F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C2CB-6BE3-4B63-869C-CB63F83DA3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愿你的国降临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愿你的国降临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愿你的国降临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愿你的国降临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2:46Z</dcterms:modified>
  <cp:revision>4</cp:revision>
  <dc:subject/>
  <dc:title>幻灯片 1</dc:title>
</cp:coreProperties>
</file>