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45EE0-E13B-4AFF-941E-E5FDDB16EE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27439-3F37-4D81-8D07-6FDAC9A0B7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C6037-71C7-4CEB-A395-3291C78669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407D3-1BAD-42FD-A1C0-AC820CD903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C2507-1766-4F6B-8687-41BC21E43D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ECBE-6217-4ABD-91D0-2134AF837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57B4-B645-4DD0-89A9-A1ED886C3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D032-B981-43F1-97CD-75CB674B4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0821-19E6-45EF-B934-71E8458F2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940D-174E-4C11-ADD4-516C64515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78AF-B70E-4166-AA47-AEBB94E71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204D-0E7F-4D1D-9726-B9EA5AFC1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3216-009F-40F4-BB27-C1E0D85BA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935D-812E-4718-99AF-43CF801DA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D125-0A47-4607-8F5A-0C0E7C46D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7854-9616-4608-886A-672E20638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8247-0FCD-4E21-9202-2B7597D69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7F216-B5D1-4B42-98D2-4D71BDF378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雞叫的時候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n The Rooster Crowed 1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C:\Documents and Settings\Administrator\桌面\再次将我更新\繁体中英PPT\雞叫的時候\雞叫的時候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雞叫的時候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n The Rooster Crowed 2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C:\Documents and Settings\Administrator\桌面\再次将我更新\繁体中英PPT\雞叫的時候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雞叫的時候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n The Rooster Crowed 3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C:\Documents and Settings\Administrator\桌面\再次将我更新\繁体中英PPT\雞叫的時候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雞叫的時候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n The Rooster Crowed 4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C:\Documents and Settings\Administrator\桌面\再次将我更新\繁体中英PPT\雞叫的時候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endy</cp:lastModifiedBy>
  <dcterms:modified xsi:type="dcterms:W3CDTF">2010-06-15T06:07:01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