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阿們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08Z</dcterms:modified>
  <cp:revision>12</cp:revision>
  <dc:subject/>
  <dc:title>阿們</dc:title>
</cp:coreProperties>
</file>