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2577-CE6B-4D7C-8EE3-AF724DD7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D4B-2DF8-47F4-914C-DD02F388D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3FEC-C60E-4FAB-8025-A03ABB84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6Z</dcterms:modified>
  <cp:revision>23</cp:revision>
  <dc:subject/>
  <dc:title>進入你的聖所 In Your Sanctuary</dc:title>
</cp:coreProperties>
</file>