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5B6C-8B56-462B-A8B9-A59516B55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3335-32D6-42B7-B189-FBA0B71D5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EF10-3911-4E04-8431-A6B82493B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m_sanctua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m_sanctua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m_sanctuar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4Z</dcterms:modified>
  <cp:revision>20</cp:revision>
  <dc:subject/>
  <dc:title>進入你的聖所</dc:title>
</cp:coreProperties>
</file>