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AC6-69A7-48F0-93C2-3DB938A4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233-8603-4A1E-95DD-D744A50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D45-C49D-4D2A-91E2-2000EF51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F4F-9F27-43BE-BA8B-5467A5C4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F4A-E051-4FF4-822B-E60D1764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223-2D04-426B-B883-84004406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F2F-8090-419B-8430-18B48748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842-1572-4F2C-9D14-3451BAE1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194-C058-4D33-817E-41AAFD32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2A0-4732-4C8E-A417-5D16898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C55-1665-4A9E-8686-811096A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BC2-53BA-4D72-9764-600F4852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52B6-EDB6-4D0F-BE2D-48838E5B84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进入你的圣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进入你的圣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进入你的圣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33Z</dcterms:modified>
  <cp:revision>5</cp:revision>
  <dc:subject/>
  <dc:title>幻灯片 1</dc:title>
</cp:coreProperties>
</file>