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C6D3-A99D-4FAE-9B84-E67B3D08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74F1-7E7A-4C2D-BCCA-462471D4A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6ED0-B9B5-4E93-A16F-E2536FCD2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A11-58AB-4876-BA6C-C341271C3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3271-2B98-44EE-A5D9-34B06E5B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573A-6A11-4937-B210-354C0F13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21AD-2FE7-451D-8FAC-40F2CB3B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116-7909-408E-B5F6-D2092985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8634-FB0F-4D45-AE69-4480B559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983-413F-4704-9EB9-4F0D6B93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859-0DF9-436F-8B03-A1C2FC2F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D005-B764-4C26-93AE-A82D9EE4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FD9C-1F56-4147-985B-F328023D2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1960" y="6248520"/>
            <a:ext cx="3809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誰能使我與神的愛隔絕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誰能使我與神的愛隔絕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誰能使我與神的愛隔絕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05320" y="6095520"/>
            <a:ext cx="2666880" cy="4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誰能使我與神的愛隔絕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4/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E:\圣洁活祭\简体\誰能使我與神的愛隔絕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5:48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