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F43-E8D9-482C-9CD4-A911611D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CB9-846E-457C-82C7-71023F2C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4DC-B5FB-43E3-9915-2859183D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6D5-4F09-4640-84A2-BC92A833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BDB-99D9-45BD-A064-48D4EA99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B90-B257-4B7D-B7D2-8B250981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C18-825B-4A77-9409-B23041FF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FD8-EE16-4D6F-8B0B-BECC847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471-13C3-4A1B-8A30-D6226F13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CA9-8777-4DE2-A32F-5CC50E5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9F1-59F1-42E7-8A24-5323A310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405-021E-4165-BE9E-28020E7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589A-7C97-45E8-B098-AB58815EF6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6:49Z</dcterms:modified>
  <cp:revision>4</cp:revision>
  <dc:subject/>
  <dc:title>幻灯片 1</dc:title>
</cp:coreProperties>
</file>