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F143-EA7A-4DFF-84D7-7D335805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B9D3-C6E5-4E91-A771-869E2B35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8861-143F-40DF-AE5B-51A94294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1FDE-93F0-47C2-8FB2-B450C1AF4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E5E2-3329-44EC-80CF-818CBB7D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6F44-C54A-4B83-968D-3031DA37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1569-C2FB-49F6-9DF5-2EEAE7DE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F0FF-D17A-4DB7-9336-3DE738E1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DD32-009E-41AA-B000-A1E73DA6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8FF3-FF16-4708-9562-BA0A3A1C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42F5-274B-45A8-BB69-88394B30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744F-45B3-43B2-89BB-4C53C365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9CE0-0D42-4F71-A4B8-F92BC83AB0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诗篇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篇（台语）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诗篇23篇（台语）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诗篇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篇（台语）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诗篇23篇（台语）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诗篇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篇（台语）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愿你的国降临\诗篇23篇（台语）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25:42Z</dcterms:modified>
  <cp:revision>5</cp:revision>
  <dc:subject/>
  <dc:title>幻灯片 1</dc:title>
</cp:coreProperties>
</file>