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15BF-DA1E-4B51-839B-A40E5B6C9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93C3-A2A6-4970-8C4C-51694EA5D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841A-A7A5-4E02-AD3A-AFD09BC37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1BDB-2F1E-4E1C-A87C-C46CD67A5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23A1-57D4-4B1C-807A-EB1EFB1EF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4094-CC9E-4FF7-9BCD-2AD609506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7CF6-333C-4693-A0CD-4BAC67FEB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51C3-171B-4BAE-9FB7-137B92A7B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DA75-177F-4866-BC3C-0CF0AC0C4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FD66-E476-4F40-A1EB-CB176C3AD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BBDD-8D4F-4F94-BC8D-60C29A5A5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B8A6-9537-441A-93D0-9B3A63D3C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270D5-021A-4280-B19A-979551A37B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亲爱主！听我祷告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1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43" name="Picture 2" descr="E:\music\诗歌\PPT\2\鼓舞\亲爱主！听我祷告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亲爱主！听我祷告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2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E:\music\诗歌\PPT\2\鼓舞\亲爱主！听我祷告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亲爱主！听我祷告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3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E:\music\诗歌\PPT\2\鼓舞\亲爱主！听我祷告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endy</cp:lastModifiedBy>
  <dcterms:modified xsi:type="dcterms:W3CDTF">2010-06-15T06:17:0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