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F36B-300F-4C09-90AE-973FD3873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9575-935B-43B7-BD6F-69AD964A1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3B98-F0D0-4BDB-BD17-72A9EB1E0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0315-495E-49D5-A35D-AE13373C8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B6C8-3CAB-4933-AF99-8F61FBA73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5D75-378F-4329-941E-B0E81046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10D9-5AF9-48C3-B156-AC20F467A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E447-57CA-42B6-9F82-5DB4297A9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22FC-160A-4524-9EF8-73B0ECFEA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5CF4-A201-4572-8645-BF47328E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89F8-5BC8-427C-BBBE-F575BE95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ADC2-8A87-4E24-A62B-2B14863B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441EF-5E5B-4506-8BD0-8A292B3F5C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万民同来敬拜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C:\Documents and Settings\Administrator\桌面\再次将我更新\简体PPT\万民同来敬拜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万民同来敬拜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再次将我更新\简体PPT\万民同来敬拜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万民同来敬拜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Documents and Settings\Administrator\桌面\再次将我更新\简体PPT\万民同来敬拜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万民同来敬拜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C:\Documents and Settings\Administrator\桌面\再次将我更新\简体PPT\万民同来敬拜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1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