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AF1-DC12-4FDA-9B5E-87E2C180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B8A-CA71-4CB6-9358-B8A37930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E5C-6677-40FF-B75E-C0D44023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610-5708-47C7-82F9-4F1BFCC8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268-F0AD-445A-809D-9ADF3198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0A4-A69A-4280-8CBC-79C3037C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DF1-D219-41D2-8780-D3A8917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43E-258D-4326-94FE-D1610D22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0AF-6B5C-4D0A-8E75-6668FBA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505-2AE0-43A5-BDA0-D4E7E462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37C-07E8-4402-8C21-3DBD269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0CF-36CF-437E-A0A9-BAD00FDE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57CB-FF65-45F3-8569-794DACD5B0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花尽一生来爱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花尽一生来爱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花尽一生来爱你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花尽一生来爱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7:19Z</dcterms:modified>
  <cp:revision>4</cp:revision>
  <dc:subject/>
  <dc:title>幻灯片 1</dc:title>
</cp:coreProperties>
</file>