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9506-1F49-4C4C-BA4C-0E26687F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A14E-E0BD-4390-AC46-EC184498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3379-5D88-4433-8DA5-07EFED31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3418-33E7-461E-B421-C3A9F627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1776-99B9-4033-9905-377523F5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116A-B073-4A65-AC33-E9F6E606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7FC0-10D2-4B99-AB6B-BDFE4034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1D9A-B471-45CD-8C4F-4D238051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644B-445F-4FC9-9FAC-476551B5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8DF0-DF83-4C02-916C-83B20E9C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B33F-7157-4442-BACF-0D1E5838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4E16-BEA9-4E50-AB31-79D17F4E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F323-7180-45F8-B3B6-4459F3BF14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耶稣基督是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耶稣基督是主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耶稣基督是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耶稣基督是主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耶稣基督是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愿你的国降临\耶稣基督是主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5:05Z</dcterms:modified>
  <cp:revision>5</cp:revision>
  <dc:subject/>
  <dc:title>幻灯片 1</dc:title>
</cp:coreProperties>
</file>