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9E2-3216-49D6-BF9E-61EC73DB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A58-2A3D-48BE-B4CC-0D5DA630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A33-9AED-4205-AFAD-594D98DB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792F-CF78-4C71-A528-27A6DDEC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084-634E-427E-A4E1-A81E2CBF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2AA-278A-47EF-8002-760B8143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1BF-AEF9-439E-B1EA-44CF6416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21B-FA5C-466A-8151-B29D91CA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1E9-6A5B-4FA3-934E-1A97FD7C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046-BFD7-4795-B85C-F6900B2F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0EE-EE49-40D8-8058-9585CFDD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9B3-041C-42A3-8E25-6F59F604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D6E5-8E10-4325-8E8D-1534C6E136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耶稣基督是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耶稣基督是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耶稣基督是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耶稣基督是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15:05Z</dcterms:modified>
  <cp:revision>5</cp:revision>
  <dc:subject/>
  <dc:title>幻灯片 1</dc:title>
</cp:coreProperties>
</file>