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3A64-29FE-4C89-87B2-26203DA19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F54C-0846-42A3-8EAB-9856195B3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D970-59DE-480C-902C-CA5DF3C73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7DEB-E71E-47DE-9C2B-F76A699A4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AE29-CADA-4F63-B360-A3352C1D5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9CCA-0D84-4192-B4FD-B375B50F6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B276-1B3C-4834-A3DE-87EE31CE9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2D7-4424-45A5-B9DD-10474628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8FAB-5484-4F1E-9A8A-430A5E86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CEE-3D9A-443F-8EA2-F307C52C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696-9D30-459C-BF6F-47970091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E78-E36B-46C3-8143-062CB7B2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C75-3486-4994-BD28-C492C8F7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C36-962C-4B8D-88BD-C9C98928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E504-41E6-4880-A239-44410309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786-94DD-473F-A91D-D168CE2F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D8F-2E8B-4BA9-82EF-61B9D06F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503-52D3-4729-892D-0CF85126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802-CA57-4D3D-BB47-D1D13B17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9C72-1B09-44BD-9971-8F8583255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耶穌,萬名之上的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耶穌,萬名之上的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耶穌,萬名之上的名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耶穌,萬名之上的名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Administrator\桌面\再次将我更新\繁体中英PPT\耶穌,萬名之上的名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C:\Documents and Settings\Administrator\桌面\再次将我更新\繁体中英PPT\耶穌,萬名之上的名\耶穌,萬名之上的名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5:1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