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我的救主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我的救主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我的救主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我的救主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20:04Z</dcterms:modified>
  <cp:revision>14</cp:revision>
  <dc:subject/>
  <dc:title>耶穌, 我的救主</dc:title>
</cp:coreProperties>
</file>