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F590-9E8E-4825-8BEB-F2E369702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5B79-BBF4-4F06-A8CE-AD351ECE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BE3E-06FD-40B8-BA27-8743A4E3C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D7B9-821C-42F6-907F-DF1640572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CA5E-2B88-4A23-98FB-66E44ADE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A1E0-CEB9-4FC8-92F9-859CE64D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F78A-C262-4811-974A-37367231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2F57-590F-4162-942C-6345AA18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0102-4B2F-4A16-B089-747AF8FF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09E0-68E1-4533-BAC7-B9255F98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20C7-2B98-45EA-97C1-88A8CAA1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54A9-C72E-4539-84B9-088EAC92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9BD0-EE2C-45F6-9B5F-BD435CCF07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耶稣，耶稣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愿你的国降临\耶稣，耶稣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耶稣，耶稣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耶稣，耶稣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15:25Z</dcterms:modified>
  <cp:revision>5</cp:revision>
  <dc:subject/>
  <dc:title>幻灯片 1</dc:title>
</cp:coreProperties>
</file>