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FEB8-7467-45F6-83B6-7A90E753E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0623-A303-4976-8B98-57A8F7FC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E921-B968-4DBF-82DE-B5AE3A854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03E5-2B61-4E48-ABCC-DAA15379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e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e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salm 8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e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07Z</dcterms:modified>
  <cp:revision>69</cp:revision>
  <dc:subject/>
  <dc:title>祢的榮耀彰顯於天 Psalm 8</dc:title>
</cp:coreProperties>
</file>