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5AED-262E-4E83-B6DB-01D5A4131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C704-F7BB-4125-B93D-B2948E0A2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5CFB-BF28-4B9B-AA63-0D6FE906B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B6A2-0EC6-4E4A-AFBF-2337A77D5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_psalm8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m_psalm8 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祢的榮耀彰顯於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m_psalm8 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1:13Z</dcterms:modified>
  <cp:revision>71</cp:revision>
  <dc:subject/>
  <dc:title>祢的榮耀彰顯於天</dc:title>
</cp:coreProperties>
</file>