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839-7035-4DCF-8FD7-182D42E6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39C3-76E0-473D-80E3-ACB63547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6E47-6229-4B8C-9D82-ED7F5A682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D6C7-C24D-44F6-98FB-691583D9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261-6658-40FB-994B-437031B0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0D8-EC23-46B0-8374-C8B85FE0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5AE-AECE-4D20-9290-0890F741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8193-E181-4921-93F8-A198D143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0B11-E05B-46FA-A7AD-E0C93D47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FB0-079D-441F-B216-4229BCC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C51-899F-4F36-94DD-C3DE725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477-FE4E-439C-AC11-7A420FB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CB1E-C19A-4E6C-A5DE-8DBD5AC16A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你的荣耀彰显于天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你的荣耀彰显于天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的荣耀彰显于天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你的荣耀彰显于天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03:11Z</dcterms:modified>
  <cp:revision>4</cp:revision>
  <dc:subject/>
  <dc:title>幻灯片 1</dc:title>
</cp:coreProperties>
</file>