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03E-3B6C-4A7E-933D-29808531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28F-D2DA-48B9-B36D-EF08A325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084-81FC-44AB-966D-039C2716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414-C4E6-4A6C-BFA6-FD76645B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B9F-3A07-4FE5-AF2E-04A8673C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7EB-27A0-4883-9B33-FD829011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D40-3B25-4F3A-BEC7-223CFBE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14A-E7C3-41E2-8AB7-35F32FEB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7BA-B3CC-473C-94A9-925EFBB1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437-0EA4-4FCA-B332-C58BE3E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3DE-065D-4E03-B669-60411D78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826-47F9-4BA8-93E6-C9852BF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AC5-9735-4EB9-88F3-060B2D8E72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的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的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的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的爱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2:43Z</dcterms:modified>
  <cp:revision>4</cp:revision>
  <dc:subject/>
  <dc:title>幻灯片 1</dc:title>
</cp:coreProperties>
</file>