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027-F94B-4A8C-AC1B-2027F3F5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2B7-59FF-41DA-8F44-9CBAAFB6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D89F-DA85-4172-97F4-8D8BD161E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BBB-9C8C-4EE4-ADCB-3E3BBB17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B2D7-C84D-464B-B025-1F15A3ED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21Z</dcterms:modified>
  <cp:revision>33</cp:revision>
  <dc:subject/>
  <dc:title>你比這一切更美麗 You Are More Beautiful Than These</dc:title>
</cp:coreProperties>
</file>