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F689-C3BA-4C8F-9CAB-33457A817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C736-7779-4613-A164-562093C1F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99AB-3185-4DB6-BD55-DA361C9B1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5234-8184-41DF-8B6D-949802A3F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537D-6C45-4EBE-9AD7-04BCB24B1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比這一切更美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m_beautiful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比這一切更美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_beautiful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比這一切更美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m_beautiful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比這一切更美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m_beautiful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03Z</dcterms:modified>
  <cp:revision>35</cp:revision>
  <dc:subject/>
  <dc:title>你比這一切更美麗</dc:title>
</cp:coreProperties>
</file>