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EF7-6E85-4FC3-B9B3-2C045C01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1C0-A79A-4F3D-8DC6-D2E8E922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ECE-93C6-4D4B-8D6E-13F5A9FC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3CB-6E1E-455D-80FF-4DDA0B89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7F3-5406-4428-803B-E4B714DB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A24-129F-48ED-8FB1-C15715BC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341-1E01-406B-B366-04C7E103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3D9-487F-47BC-8F4A-F221E825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8C7-DB8F-4113-8B44-3D1EA4A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E99-4A6D-46A9-A290-D09A4517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5A7-DF1F-4CDA-A8B2-0AB04E6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C70-5D45-49FD-8834-AF4B698B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E228-6467-42EF-B21D-D2ABE64C44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你比这一切更美丽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你比这一切更美丽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你比这一切更美丽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你比这一切更美丽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5:18Z</dcterms:modified>
  <cp:revision>4</cp:revision>
  <dc:subject/>
  <dc:title>幻灯片 1</dc:title>
</cp:coreProperties>
</file>