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EB0-BD5F-4089-B543-41914CE9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445-448D-4266-9599-18528DCE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5FD-75EF-4E9C-AD66-845B03C1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FD7-BB4B-494C-8158-05339A01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5ED-8CFB-4245-AD90-1EB6A42E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7C1-E9A8-439A-AE56-DA22CCF9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775-B4A9-4093-8D10-626253C3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080-3427-4835-8356-44878A0D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805-C15C-4F9B-8A82-8C44AEA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2EB-F362-4EC3-9888-D6A57417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56C-FA4C-4DD8-B6B6-EBD2788B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AC9-036A-4817-9753-A733BFA4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1F82-7EBD-47E6-82CE-E0FF69BDD4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你是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配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你是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3:30Z</dcterms:modified>
  <cp:revision>4</cp:revision>
  <dc:subject/>
  <dc:title>幻灯片 1</dc:title>
</cp:coreProperties>
</file>