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337-063F-4BAE-9D02-46400D86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171-28DD-4848-A905-0FB8EF52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2E3-9120-4A5D-9924-B0BF14BD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E15-38D4-46C6-9C45-75698410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E84-60F1-4E3C-AADE-FE46BC8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F00-837A-4CCC-B1E6-650CC3B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453-0291-4067-9B71-3733DEFD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827-EB8A-474C-B3EB-187BAC8A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D4F-675B-416F-93AA-4264EEE7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77D-9967-42BC-B5DB-67C9F803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8C6-84F4-4F5D-989A-AA7E6A0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AB2-07D1-47F3-81CA-D6B6E69E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D15-6850-4CF9-A5CC-452CCDCCDF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是我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是我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是我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是我神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8:30Z</dcterms:modified>
  <cp:revision>4</cp:revision>
  <dc:subject/>
  <dc:title>幻灯片 1</dc:title>
</cp:coreProperties>
</file>