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C8D-B66D-4B1E-BF04-C9E969DD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AEF6-60BF-4426-82CD-97ED5CA0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2FC0-B042-45C1-BB21-7856E4660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9565-EEAC-44CF-B0C0-65638100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D28-F26C-4AB1-ABB1-16E84288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E7C9-2516-4C75-A2E8-EA1FAB1A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172-4331-431B-998A-E33774D4E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3D9-CF75-4501-BA25-D3A7C440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9B90-CC0E-41F8-A82C-DC64F92E6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50A-6542-4FEF-AA4F-2AACC195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866-C2BD-4441-9774-F69021AB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24C2-0CFA-4095-9188-4E9ECB06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C0D677B2-4F3C-4980-8779-8D10A4CB41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51120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35640" y="281124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DFKai-SB"/>
                <a:ea typeface="DFKai-SB"/>
              </a:rPr>
              <a:t>English Lyrics: Steven Nga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2"/>
          <p:cNvSpPr/>
          <p:nvPr/>
        </p:nvSpPr>
        <p:spPr>
          <a:xfrm>
            <a:off x="-36360" y="1917000"/>
            <a:ext cx="91429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DFKai-SB"/>
                <a:ea typeface="DFKai-SB"/>
              </a:rPr>
              <a:t>YOU'RE THE ONE FOR 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9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0" y="762120"/>
            <a:ext cx="9143640" cy="56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屬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55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4"/>
          <p:cNvSpPr/>
          <p:nvPr/>
        </p:nvSpPr>
        <p:spPr>
          <a:xfrm>
            <a:off x="0" y="762120"/>
            <a:ext cx="9143640" cy="57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r>
              <a:rPr b="0" lang="en-US" sz="5000" spc="-1" strike="noStrike">
                <a:solidFill>
                  <a:srgbClr val="000000"/>
                </a:solidFill>
                <a:latin typeface="DFKai-SB"/>
                <a:ea typeface="DFKai-SB"/>
              </a:rPr>
              <a:t> 我心單單愛祢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Lord, my heart beats for You;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Who is like You? None can compare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GungsuhChe"/>
              </a:rPr>
              <a:t>You are the One for me</a:t>
            </a:r>
            <a:r>
              <a:rPr b="0" lang="en-US" sz="3700" spc="-1" strike="noStrike">
                <a:solidFill>
                  <a:srgbClr val="000000"/>
                </a:solidFill>
                <a:latin typeface="DFKai-SB"/>
                <a:ea typeface="DFKai-SB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0" y="332640"/>
            <a:ext cx="914364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've engraved me on Your palms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get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You will not forsake m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Lord unchanging through every age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  <a:ea typeface="GungsuhChe"/>
              </a:rPr>
              <a:t>I'll love You eternally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"/>
          <p:cNvSpPr/>
          <p:nvPr/>
        </p:nvSpPr>
        <p:spPr>
          <a:xfrm>
            <a:off x="6516360" y="64130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副标题 3074"/>
          <p:cNvSpPr/>
          <p:nvPr/>
        </p:nvSpPr>
        <p:spPr>
          <a:xfrm>
            <a:off x="0" y="6400800"/>
            <a:ext cx="913716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  <Words>271</Words>
  <Paragraphs>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4:43Z</dcterms:modified>
  <cp:revision>9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