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E6DB-1E61-43DF-AD68-74A8DA4C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D19-A1DE-4678-A7F1-92B13620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2D6-00DA-4AE2-9BAF-1215B6F7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2B4E-4CDE-4A0C-807C-D5B17E2A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94F4-8C20-4F9D-9198-9A6A8689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9195-DDC4-43A1-B664-37141BD4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47C7-9792-455D-804D-14F4CF48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5ADE-D463-4731-BEF0-23C27452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480"/>
            <a:ext cx="6857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C2C-7285-4A66-A34B-31215049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AF2-3A03-4ABC-862A-E3C652FE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B2F-2937-412F-B7CF-BBBFD03D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0107-BDC6-45C4-ADBE-0AB90F67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7640" cy="238716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  <a:ea typeface="宋体"/>
              </a:rPr>
              <a:t>单击此处编辑母版标题样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74C64CE-AF60-410C-BCF4-99436C1591B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45000" y="278136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-5040" y="908640"/>
            <a:ext cx="91486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8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8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3"/>
          <p:cNvSpPr/>
          <p:nvPr/>
        </p:nvSpPr>
        <p:spPr>
          <a:xfrm>
            <a:off x="720" y="2611080"/>
            <a:ext cx="91245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《寶座》專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DFKai-SB"/>
                <a:ea typeface="DFKai-SB"/>
              </a:rPr>
              <a:t>詞曲：劉安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00000"/>
              </a:lnSpc>
              <a:tabLst>
                <a:tab algn="l" pos="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47" name="文本框 2"/>
          <p:cNvSpPr/>
          <p:nvPr/>
        </p:nvSpPr>
        <p:spPr>
          <a:xfrm>
            <a:off x="395640" y="3501360"/>
            <a:ext cx="3812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3000" spc="-1" strike="noStrike">
              <a:solidFill>
                <a:schemeClr val="accent5"/>
              </a:solidFill>
              <a:latin typeface="华文隶书"/>
              <a:ea typeface="华文隶书"/>
            </a:endParaRPr>
          </a:p>
        </p:txBody>
      </p:sp>
      <p:sp>
        <p:nvSpPr>
          <p:cNvPr id="48" name="文本框 4"/>
          <p:cNvSpPr/>
          <p:nvPr/>
        </p:nvSpPr>
        <p:spPr>
          <a:xfrm>
            <a:off x="0" y="981000"/>
            <a:ext cx="9143640" cy="48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屬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6"/>
          <p:cNvSpPr/>
          <p:nvPr/>
        </p:nvSpPr>
        <p:spPr>
          <a:xfrm>
            <a:off x="0" y="6382440"/>
            <a:ext cx="171792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1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1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828000" y="45000"/>
            <a:ext cx="726228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1" lang="en-US" sz="6000" spc="-1" strike="noStrike">
              <a:ln>
                <a:solidFill>
                  <a:srgbClr val="000000"/>
                </a:solidFill>
              </a:ln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54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2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4"/>
          <p:cNvSpPr/>
          <p:nvPr/>
        </p:nvSpPr>
        <p:spPr>
          <a:xfrm>
            <a:off x="0" y="981000"/>
            <a:ext cx="91436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我心單單愛祢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世上無人與祢相比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DFKai-SB"/>
                <a:ea typeface="DFKai-SB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就是我的唯一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主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副标题 3074"/>
          <p:cNvSpPr/>
          <p:nvPr/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000" y="2853000"/>
            <a:ext cx="9150120" cy="146952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br>
              <a:rPr sz="2800"/>
            </a:br>
            <a:r>
              <a:rPr b="1" lang="en-US" sz="28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4000" spc="-1" strike="noStrike">
                <a:ln>
                  <a:solidFill>
                    <a:srgbClr val="000000"/>
                  </a:solidFill>
                </a:ln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0" y="6382440"/>
            <a:ext cx="9143640" cy="47520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DFKai-SB"/>
                <a:ea typeface="DFKai-SB"/>
              </a:rPr>
              <a:t>小羊詩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4"/>
          <p:cNvSpPr/>
          <p:nvPr/>
        </p:nvSpPr>
        <p:spPr>
          <a:xfrm>
            <a:off x="0" y="981000"/>
            <a:ext cx="9143640" cy="48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將我銘刻掌心永遠不忘記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永遠不離棄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昔在 今在 永在的主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zh-CN" sz="5500" spc="-1" strike="noStrike">
                <a:solidFill>
                  <a:srgbClr val="000000"/>
                </a:solidFill>
                <a:latin typeface="DFKai-SB"/>
                <a:ea typeface="DFKai-SB"/>
              </a:rPr>
              <a:t>祢愛我一直到永遠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5"/>
          <p:cNvSpPr/>
          <p:nvPr/>
        </p:nvSpPr>
        <p:spPr>
          <a:xfrm>
            <a:off x="0" y="6381000"/>
            <a:ext cx="160488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500" spc="-1" strike="noStrike">
                <a:solidFill>
                  <a:schemeClr val="accent4"/>
                </a:solidFill>
                <a:latin typeface="楷体"/>
                <a:ea typeface="楷体"/>
              </a:rPr>
              <a:t>副歌</a:t>
            </a:r>
            <a:r>
              <a:rPr b="1" lang="en-US" sz="2500" spc="-1" strike="noStrike">
                <a:solidFill>
                  <a:schemeClr val="accent4"/>
                </a:solidFill>
                <a:latin typeface="楷体"/>
                <a:ea typeface="楷体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6516360" y="6402240"/>
            <a:ext cx="26272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[</a:t>
            </a:r>
            <a:r>
              <a:rPr b="1" lang="zh-CN" sz="2300" spc="-1" strike="noStrike">
                <a:solidFill>
                  <a:schemeClr val="accent4"/>
                </a:solidFill>
                <a:latin typeface="楷体"/>
                <a:ea typeface="楷体"/>
              </a:rPr>
              <a:t>祢是我的唯一</a:t>
            </a:r>
            <a:r>
              <a:rPr b="1" lang="en-US" sz="2300" spc="-1" strike="noStrike">
                <a:solidFill>
                  <a:schemeClr val="accent4"/>
                </a:solidFill>
                <a:latin typeface="楷体"/>
                <a:ea typeface="楷体"/>
              </a:rPr>
              <a:t>3/3]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默认设计模板">
  <a:themeElements>
    <a:clrScheme name="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9edee"/>
      </a:accent5>
      <a:accent6>
        <a:srgbClr val="2d2d89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  <Words>170</Words>
  <Paragraphs>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4-13T07:18:00Z</dcterms:created>
  <dc:creator>Administrator</dc:creator>
  <dc:description/>
  <dc:language>en-US</dc:language>
  <cp:lastModifiedBy>Wendy Liu</cp:lastModifiedBy>
  <dcterms:modified xsi:type="dcterms:W3CDTF">2023-10-28T05:18:59Z</dcterms:modified>
  <cp:revision>13</cp:revision>
  <dc:subject/>
  <dc:title>_x005F_x000b_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C17D9D53E2446AFAA3B231C385A6FFD_12</vt:lpwstr>
  </property>
  <property fmtid="{D5CDD505-2E9C-101B-9397-08002B2CF9AE}" pid="3" name="KSOProductBuildVer">
    <vt:lpwstr>2052-11.1.0.14036</vt:lpwstr>
  </property>
  <property fmtid="{D5CDD505-2E9C-101B-9397-08002B2CF9AE}" pid="4" name="PresentationFormat">
    <vt:lpwstr>On-screen Show (4:3)</vt:lpwstr>
  </property>
  <property fmtid="{D5CDD505-2E9C-101B-9397-08002B2CF9AE}" pid="5" name="Slides">
    <vt:r8>4</vt:r8>
  </property>
</Properties>
</file>