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眾山怎樣圍繞耶路撒冷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02Z</dcterms:modified>
  <cp:revision>11</cp:revision>
  <dc:subject/>
  <dc:title>眾山怎樣圍繞耶路撒冷</dc:title>
</cp:coreProperties>
</file>