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FFE-DD07-4004-AC4B-ADFD329D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58D-AE8B-4090-8F23-16034682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FAA-FF93-45A6-B4C1-7E854A7F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CD8-0A1F-4284-9F5E-2605CEB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9F8-8C3A-456C-9D0B-DA73259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D36-5DD1-4304-B2E2-F9AC5154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50B-BF5A-4813-9ABE-06750F4F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4E9-BA28-4BCC-A9A9-C4A01EF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445-D9C6-4024-8572-402A77F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566-37E5-4A0D-91C9-AEF67F7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F3F-5834-4B75-97F8-D2148AE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99E-1453-40BE-9272-97C5B55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25A-66C0-4D70-A468-CA0EF529AC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盟约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盟约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盟约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盟约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盟约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22Z</dcterms:modified>
  <cp:revision>4</cp:revision>
  <dc:subject/>
  <dc:title>幻灯片 1</dc:title>
</cp:coreProperties>
</file>