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A273-F778-44E4-93A0-E387179CD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F597-6807-4F68-A3DD-50751093C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5922-2F27-48AF-AEA6-4CB63215D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922D-5F31-42C1-9CB8-62B2EC9B5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F356-35C7-41AF-9F48-F4559D71A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 Of Peace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em_momen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 Of Peace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momen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 Of Peace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momen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 Of Peace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em_momen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13Z</dcterms:modified>
  <cp:revision>45</cp:revision>
  <dc:subject/>
  <dc:title>片刻的安寧 Moment Of Peace</dc:title>
</cp:coreProperties>
</file>