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8248-9845-4B9B-B2C6-79DCA3DBF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8A0F-13AE-4177-B2BD-429A1B2ED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5DC2-3599-4CA3-8A3A-D0F58D726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5D15-17C4-406D-8618-9B9C225F1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373A-CA31-4722-8731-CB74E40AA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m_mome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mome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_momen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momen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17Z</dcterms:modified>
  <cp:revision>47</cp:revision>
  <dc:subject/>
  <dc:title>片刻的安寧</dc:title>
</cp:coreProperties>
</file>