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5A2-08D3-4B5A-90BD-A6EDDE21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C06-8497-4671-BAEC-96D269B9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AB9-A434-4316-A0A6-ACEB6EAB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BE6-BD86-47A3-80B7-23F36286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DCD-DCCE-42C0-B6D7-DDDC1904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740-BAA9-449C-BB96-526801A3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0E5-AFED-4619-88E9-505C43AB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096-4192-48E5-93D2-76B491EB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DDC-D6B0-41E6-AF9D-B2141830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176-3D5C-4295-A9E8-46BE5EB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363-3C5C-4137-AA42-938D4B8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369-3D3B-4C1A-A6DD-11FFD9A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5672-E9B4-466B-8DB6-860E7E9671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片刻的安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片刻的安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片刻的安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片刻的安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56Z</dcterms:modified>
  <cp:revision>4</cp:revision>
  <dc:subject/>
  <dc:title>幻灯片 1</dc:title>
</cp:coreProperties>
</file>