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CCC9-D7E5-47F1-BBD8-FB1EF482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2F6A-3BCD-4599-819A-581FA3C6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FF1-C73F-4A69-A67A-2E9B1119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A58-B4AA-4EFE-9188-87760A80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E02-301C-4151-8DB8-0224F196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E53-2F0F-45B8-AA12-71939A79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E7FD-16FC-45E6-BCA3-E78107C6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BA9-836C-41E6-9BF9-ED8B8618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54A-749B-43E2-9783-98BE0294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A6B-D174-4A06-8D34-13210955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09F-1F1A-407B-A175-15B98501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ACF7-8CFF-4826-8B1C-D9EEA89B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ACBA-1AF2-4C16-9726-3BC2C6846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无他唯耶稣的宝血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无他唯耶稣的宝血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无他唯耶稣的宝血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主，我相信\无他唯耶稣的宝血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E:\music\诗歌\PPT\2\主，我相信\无他唯耶稣的宝血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E:\music\诗歌\PPT\2\主，我相信\无他唯耶稣的宝血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6:01:5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