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86EE-0563-416C-B3D7-C7E2E30B0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E50C-BE3E-4757-87A7-20815F31F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F39E-3222-48F8-8196-366A485E3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FFDB-A350-4204-ADAB-621AF12A2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FF3C-DD6D-4C22-9995-067117EC6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64D1-8AFD-4C2D-B8DF-06CCC77F5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6712-9F3F-4529-9C93-55BAB3602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A836-3B1F-498F-99D2-FB3242E5B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25FE-16D2-4732-8285-9F94CBEC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AD80-FC8A-4BDF-ACF6-E74B8D617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DA9B-2C6F-4679-A118-373C3A387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8B1C-4B9F-4B74-9125-C5CAF223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A46F-B408-48E0-A8C1-0C5088AC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CE70-D92B-4208-ABD5-96AC0523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5BB4-597D-4EAA-A307-DB2AC3FA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A75A-D7BB-4D92-9C11-DA791B99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C331-54D8-40FE-A269-186A0587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EF90-61A6-47DE-9DAD-F713F83E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A7C4-0882-482D-BD06-E2B93FE8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D9D8-F0CD-4FDC-9DE2-0F1BE16A9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ve A Place For Me 1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Documents and Settings\Administrator\桌面\再次将我更新\繁体中英PPT\為我留一個位子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ve A Place For Me 2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C:\Documents and Settings\Administrator\桌面\再次将我更新\繁体中英PPT\為我留一個位子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ve A Place For Me 3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C:\Documents and Settings\Administrator\桌面\再次将我更新\繁体中英PPT\為我留一個位子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ve A Place For Me 4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C:\Documents and Settings\Administrator\桌面\再次将我更新\繁体中英PPT\為我留一個位子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ve A Place For Me 5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C:\Documents and Settings\Administrator\桌面\再次将我更新\繁体中英PPT\為我留一個位子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ve A Place For Me 6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" descr="C:\Documents and Settings\Administrator\桌面\再次将我更新\繁体中英PPT\為我留一個位子\幻灯片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4:1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