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4DC9-8F14-45E0-9AB6-94BAC6A40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1351-8ED4-412C-8622-1532B45D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649D-5E08-4FA9-B84B-775724BE5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5F00-443F-419E-8EA5-2D6104455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46F1-F810-4D08-A210-AA410EAF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36FB-7C94-4C7A-AE5B-1DB13D65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9D90-5B2F-4ED0-9E47-6AD7DE97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5FF8-7B3E-4EB6-AE20-5F3DEBC3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17E2-0EF6-47C0-BC40-22AE21BD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B43A-9D74-4D66-9BD1-E817CFEC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9195-C008-4D83-ABBA-3FFA71E0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25B1-11C5-4A94-A559-641AFE30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0DC7A02-37CB-41E9-8C5A-49B5472332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-24120" y="692640"/>
            <a:ext cx="91486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DFKai-SB"/>
                <a:ea typeface="DFKai-SB"/>
              </a:rPr>
              <a:t>漁家傲</a:t>
            </a:r>
            <a:r>
              <a:rPr b="0" lang="en-US" sz="8000" spc="-1" strike="noStrike">
                <a:solidFill>
                  <a:srgbClr val="000000"/>
                </a:solidFill>
                <a:latin typeface="DFKai-SB"/>
                <a:ea typeface="DFKai-SB"/>
              </a:rPr>
              <a:t>.</a:t>
            </a:r>
            <a:r>
              <a:rPr b="0" lang="zh-CN" sz="8000" spc="-1" strike="noStrike">
                <a:solidFill>
                  <a:srgbClr val="000000"/>
                </a:solidFill>
                <a:latin typeface="DFKai-SB"/>
                <a:ea typeface="DFKai-SB"/>
              </a:rPr>
              <a:t>新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"/>
          <p:cNvSpPr/>
          <p:nvPr/>
        </p:nvSpPr>
        <p:spPr>
          <a:xfrm>
            <a:off x="9360" y="2781360"/>
            <a:ext cx="912456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曲：高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：黃海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2"/>
          <p:cNvSpPr/>
          <p:nvPr/>
        </p:nvSpPr>
        <p:spPr>
          <a:xfrm>
            <a:off x="-24120" y="1989000"/>
            <a:ext cx="9128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FKai-SB"/>
                <a:ea typeface="DFKai-SB"/>
              </a:rPr>
              <a:t>EAGER SHE AW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8" name="文本框 4"/>
          <p:cNvSpPr/>
          <p:nvPr/>
        </p:nvSpPr>
        <p:spPr>
          <a:xfrm>
            <a:off x="0" y="304920"/>
            <a:ext cx="9143640" cy="57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志在千禧婚筵聚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Eager, she awaits her groom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無花但望枝葉綠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Sweet anointed with perfume,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遍抹膏油佳偶許 擇日娶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In her dress with golden plaits, she now wait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金銀刺綉新裝預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Like a fig tree soon to bloom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3"/>
          <p:cNvSpPr/>
          <p:nvPr/>
        </p:nvSpPr>
        <p:spPr>
          <a:xfrm>
            <a:off x="6781680" y="6402240"/>
            <a:ext cx="2361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漁家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.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2/2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3"/>
          <p:cNvSpPr/>
          <p:nvPr/>
        </p:nvSpPr>
        <p:spPr>
          <a:xfrm>
            <a:off x="6781680" y="6402240"/>
            <a:ext cx="2361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漁家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.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2/2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4"/>
          <p:cNvSpPr/>
          <p:nvPr/>
        </p:nvSpPr>
        <p:spPr>
          <a:xfrm>
            <a:off x="0" y="332640"/>
            <a:ext cx="9143640" cy="58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好事耽延君遠去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Virgins' lamps at midnight burn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精明童女燈油蓄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For his coming all now yearn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夜半更深呼聲與 燈火續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"Lo, he comes!" now cries a voice. All rejoice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白衣閃亮新郎愉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At long last the groom returns!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0" y="6381000"/>
            <a:ext cx="16048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  <Words>200</Words>
  <Paragraphs>4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4:59Z</dcterms:modified>
  <cp:revision>11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3</vt:r8>
  </property>
</Properties>
</file>