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881-83B9-4FCD-82B8-95352F05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E47-B965-426B-9419-CDEF6E09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DBF-1047-423F-9E05-0AD559FB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9A1-23C0-4E9B-AC16-FF4EAE09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B9A-9362-4390-A9D8-5D69AD7A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7DB-780B-4DCB-9051-79169C63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289-3961-49F0-BAD7-357A597B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963-13D8-4E55-9ED6-D19B5A56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17F-B9F1-4719-8D96-71C93682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85A-1552-4090-B7BC-188936BF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45A-AACF-47D3-B0F0-E899C4E3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3BE-13AF-499E-8373-AFE9F7C2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C0F1DF1-76C7-44AA-AF34-1AD283B985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30960" y="762120"/>
            <a:ext cx="9112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漁家傲</a:t>
            </a:r>
            <a:r>
              <a:rPr b="0" lang="en-US" sz="80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新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"/>
          <p:cNvSpPr/>
          <p:nvPr/>
        </p:nvSpPr>
        <p:spPr>
          <a:xfrm>
            <a:off x="0" y="2493000"/>
            <a:ext cx="9134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曲：高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：黃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858000" y="6413040"/>
            <a:ext cx="2285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-8280" y="908640"/>
            <a:ext cx="91454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志在千禧婚筵聚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無花但望枝葉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遍抹膏油佳偶許 擇日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金銀刺綉新裝預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9144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好事耽延君遠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精明童女燈油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夜半更深呼聲與 燈火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白衣閃亮新郎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81000"/>
            <a:ext cx="1604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6858000" y="6413040"/>
            <a:ext cx="2285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126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22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3</vt:r8>
  </property>
</Properties>
</file>