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975A-02DA-4DF7-BDF1-14C9BCC11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F4DA-E273-47CD-B782-458556F30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FF8C-9DF7-4992-8E5B-23C585DDD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3386-4843-4D28-8365-C11F09FD3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0E05-C8C6-489C-A502-3AD08C7A3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F9C3-25AE-4E2B-9249-AE77EC77B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BF8F-E884-4159-8800-C06A2336C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4791-43AD-4960-B0AD-60454D088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D6FC-0CD6-4050-957C-21F759FA3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6ECC-E5DA-4307-B6BE-CC1FE5637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FE5C-E725-4584-962E-C919A3A9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4838-7E66-4DD9-BFA7-E7EA4F77D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E5A24-AD3C-4B27-98CA-7FCC59882D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永遠稱謝你（台語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" descr="C:\Documents and Settings\Administrator\桌面\主啊,誰人親像祢\繁体\1. 永遠稱謝祢 (台語)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永遠稱謝你（台語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" descr="C:\Documents and Settings\Administrator\桌面\主啊,誰人親像祢\繁体\1. 永遠稱謝祢 (台語)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6:36:0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