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B3BB-B83B-4843-861F-3FBC1E51B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08F0-A3C8-4586-A785-D46DA4CFE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3598-4644-4698-ABDF-62B1F6504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1417-53AF-4009-A4A7-AA9CC6D90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5AE6-6F24-4342-AB6B-703D97197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ernity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me_eternit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ernity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e_eternit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ernity 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e_eternity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ernity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e_eternity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50Z</dcterms:modified>
  <cp:revision>26</cp:revision>
  <dc:subject/>
  <dc:title>永遠 Eternity</dc:title>
</cp:coreProperties>
</file>