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30D4-85DD-4DB7-961F-9094D4374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F24E-01D1-465E-A027-52EC97AC6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2943-7617-4DDE-A508-EE27A4C63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A6DB-F1A4-4EE7-B45C-5CD3B68CF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4029-D0F7-45DE-BE2B-97EDCF71F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_eternit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eternit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eternit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_eternity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59Z</dcterms:modified>
  <cp:revision>27</cp:revision>
  <dc:subject/>
  <dc:title>永遠</dc:title>
</cp:coreProperties>
</file>