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90349-5BE0-4459-B3EC-225301A2B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E58B3-6811-4A7E-BEAA-0215AC565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7479B-FBCF-4993-A084-7446C4CEB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09103-6EC0-4939-B61F-B9A3A140E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B7DD4-BF43-4362-AC90-C56C43D80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29892-11B8-430E-A8AB-9A79DBC8D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6B848-027C-422B-A59D-8C28098C3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8BEE4-DD62-4940-85E3-C68D052AF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30799-A3BF-43FA-A186-38D6F2E26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6D673-DB0C-4C7E-BCE4-9E74993C4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5EDBB-596B-4DE1-9C5F-C434A011F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5AA31-D21B-4694-8454-D8EE3CA07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F1864-B42B-42A2-BB13-6E3652089C6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永远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1/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3" descr="E:\music\诗歌\PPT\2\永远\永远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永远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/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1" descr="E:\music\诗歌\PPT\2\永远\永远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永远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3/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1" descr="E:\music\诗歌\PPT\2\永远\永远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永远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4/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" descr="E:\music\诗歌\PPT\2\永远\永远\幻灯片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9T04:47:40Z</dcterms:created>
  <dc:creator>YYC</dc:creator>
  <dc:description/>
  <dc:language>en-US</dc:language>
  <cp:lastModifiedBy>微软用户</cp:lastModifiedBy>
  <dcterms:modified xsi:type="dcterms:W3CDTF">2010-06-13T15:01:37Z</dcterms:modified>
  <cp:revision>5</cp:revision>
  <dc:subject/>
  <dc:title>幻灯片 1</dc:title>
</cp:coreProperties>
</file>