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2B13-FA8D-4A36-9F87-2BCB076B1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DFCE-1624-4C64-8C68-FE366904F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3C90-AA6C-40C1-9755-8877CACC6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83CB-EAC5-46E8-BF8C-783BCE948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ry To The Lamb Of God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glo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37Z</dcterms:modified>
  <cp:revision>37</cp:revision>
  <dc:subject/>
  <dc:title>榮耀都歸神羔羊 Glory To The Lamb Of God</dc:title>
</cp:coreProperties>
</file>