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4D66-2C53-4A6A-95F6-03841C0B2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FE91-7F25-4AC6-9C89-BD01A1FC5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8265-8C54-4D4E-B08E-9C8DDB0BE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m_glor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m_glo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33Z</dcterms:modified>
  <cp:revision>38</cp:revision>
  <dc:subject/>
  <dc:title>榮耀都歸神羔羊</dc:title>
</cp:coreProperties>
</file>