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88D-CBB6-487B-A13B-6F53CF56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F21-0195-4D68-B84B-435A990D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736-F501-4CAD-BD4F-B047BFC2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282-28D5-4F78-BC38-86A51652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7CF-46D1-4D1A-A8F5-5758FC7C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45F-5F7D-48A0-A8DB-0317B99A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2C5-D463-4462-A91C-CD5EB4BB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E29-2CEE-4C00-8942-65FEDF05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592-A6C4-46C4-BA1B-9E9973A9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363-EFAE-480A-8627-3EE9F628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D9B-6AF7-43DF-8621-8832952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075-CC82-4771-B1A1-9C8EFC93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63B7-EEE7-45B1-9E6C-C37EF83A3C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都归神羔羊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荣耀都归神羔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荣耀都归神羔羊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荣耀都归神羔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0:19Z</dcterms:modified>
  <cp:revision>5</cp:revision>
  <dc:subject/>
  <dc:title>幻灯片 1</dc:title>
</cp:coreProperties>
</file>