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2B0-54B2-4D7E-B220-3DB20152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685-EB52-4FB5-92AB-C491110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85-6F81-4A2E-9B6D-7D6387DE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BA6-7F43-4515-940C-67A9989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E61-EAC7-47A2-A466-7BE1458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909-2838-439A-9AB8-39C1320D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D13-1796-4A0F-8AA8-FE9A223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D84-6225-4F31-833F-8B2CCE1C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C4E-5302-437B-9B39-15E1BD61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6DB-3578-499F-859B-14254BE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1D1-0BAF-4807-92FA-D811CB6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4C3-5A7F-402E-935A-1D8D32F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D936-FA3C-469A-BE73-CDD3DA3D8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荣耀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荣耀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07Z</dcterms:modified>
  <cp:revision>5</cp:revision>
  <dc:subject/>
  <dc:title>幻灯片 1</dc:title>
</cp:coreProperties>
</file>