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BFF8-DCEC-473B-ADA4-7B0285807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19DE-A009-47FA-9C6E-96F0AA75C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FCCF-C53A-4263-AB12-ECC818A01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5D05-D1C8-41BB-BB2E-20BAD5962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9424-94E0-4AF4-B32B-B5DE2BB8D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DB08-BD40-4033-9BA4-E8FFA9488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2FA1-0837-44AB-B3EF-B666C76B1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3030-500E-4A8B-A319-7C219FE2B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480"/>
            <a:ext cx="6857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2B8B-7059-4EA4-97D8-7D898A8B4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8186-6E9B-4A78-9896-67FE8A1F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C40C-29C5-4308-ABE4-586B01201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C3E3-E923-4A9E-8E0C-FEA8AE6F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7B365065-D516-4645-9F59-F9ECBF6EE2B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45000" y="278136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8000" y="6453360"/>
            <a:ext cx="75960" cy="156600"/>
          </a:xfrm>
          <a:prstGeom prst="rect">
            <a:avLst/>
          </a:prstGeom>
          <a:solidFill>
            <a:srgbClr val="8c7549"/>
          </a:solidFill>
          <a:ln w="9360">
            <a:solidFill>
              <a:srgbClr val="90784a"/>
            </a:solidFill>
            <a:round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8c7549"/>
                </a:solidFill>
                <a:latin typeface="楷体"/>
                <a:ea typeface="楷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1"/>
          <p:cNvSpPr/>
          <p:nvPr/>
        </p:nvSpPr>
        <p:spPr>
          <a:xfrm>
            <a:off x="0" y="548640"/>
            <a:ext cx="9142920" cy="18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1000" spc="-1" strike="noStrike">
                <a:solidFill>
                  <a:srgbClr val="000000"/>
                </a:solidFill>
                <a:latin typeface="DFKai-SB"/>
                <a:ea typeface="DFKai-SB"/>
              </a:rPr>
              <a:t>有祢同行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3"/>
          <p:cNvSpPr/>
          <p:nvPr/>
        </p:nvSpPr>
        <p:spPr>
          <a:xfrm>
            <a:off x="-720" y="2277000"/>
            <a:ext cx="91436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《寶座》專輯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詞曲：林婉容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English Lyrics: Steven Nga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CCLI#719164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5"/>
          <p:cNvSpPr/>
          <p:nvPr/>
        </p:nvSpPr>
        <p:spPr>
          <a:xfrm>
            <a:off x="35640" y="2061360"/>
            <a:ext cx="9142920" cy="6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DFKai-SB"/>
                <a:ea typeface="DFKai-SB"/>
              </a:rPr>
              <a:t>I'M NOT ALON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副标题 3074"/>
          <p:cNvSpPr/>
          <p:nvPr/>
        </p:nvSpPr>
        <p:spPr>
          <a:xfrm>
            <a:off x="0" y="6381720"/>
            <a:ext cx="914364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3"/>
          <p:cNvSpPr/>
          <p:nvPr/>
        </p:nvSpPr>
        <p:spPr>
          <a:xfrm>
            <a:off x="6971760" y="6402240"/>
            <a:ext cx="21625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有祢同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/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4"/>
          <p:cNvSpPr/>
          <p:nvPr/>
        </p:nvSpPr>
        <p:spPr>
          <a:xfrm>
            <a:off x="0" y="692640"/>
            <a:ext cx="9143640" cy="69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DFKai-SB"/>
                <a:ea typeface="DFKai-SB"/>
              </a:rPr>
              <a:t>有祢同行 勝過千萬人同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  <a:ea typeface="GungsuhChe"/>
              </a:rPr>
              <a:t>Though few the friends on this way I choose to go,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DFKai-SB"/>
                <a:ea typeface="DFKai-SB"/>
              </a:rPr>
              <a:t>有祢同行 我能勇敢走窄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  <a:ea typeface="GungsuhChe"/>
              </a:rPr>
              <a:t>You give me strength to seek out the narrow road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DFKai-SB"/>
                <a:ea typeface="DFKai-SB"/>
              </a:rPr>
              <a:t>開我眼睛 看見祢就在這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  <a:ea typeface="GungsuhChe"/>
              </a:rPr>
              <a:t>Help me to see that You're traveling with me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DFKai-SB"/>
                <a:ea typeface="DFKai-SB"/>
              </a:rPr>
              <a:t>我靈穩妥 因祢與我同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  <a:ea typeface="GungsuhChe"/>
              </a:rPr>
              <a:t>With You I'm safe; with You I'm not alone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5"/>
          <p:cNvSpPr/>
          <p:nvPr/>
        </p:nvSpPr>
        <p:spPr>
          <a:xfrm>
            <a:off x="0" y="6361560"/>
            <a:ext cx="15692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副标题 3074"/>
          <p:cNvSpPr/>
          <p:nvPr/>
        </p:nvSpPr>
        <p:spPr>
          <a:xfrm>
            <a:off x="0" y="6381720"/>
            <a:ext cx="914364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3"/>
          <p:cNvSpPr/>
          <p:nvPr/>
        </p:nvSpPr>
        <p:spPr>
          <a:xfrm>
            <a:off x="6971760" y="6402240"/>
            <a:ext cx="21625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有祢同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/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4"/>
          <p:cNvSpPr/>
          <p:nvPr/>
        </p:nvSpPr>
        <p:spPr>
          <a:xfrm>
            <a:off x="0" y="692640"/>
            <a:ext cx="9143640" cy="52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DFKai-SB"/>
                <a:ea typeface="DFKai-SB"/>
              </a:rPr>
              <a:t>有祢同行 勝過千萬人同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  <a:ea typeface="GungsuhChe"/>
              </a:rPr>
              <a:t>Though few the friends on this way I choose to go,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DFKai-SB"/>
                <a:ea typeface="DFKai-SB"/>
              </a:rPr>
              <a:t>有祢同行 我能勇敢走窄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  <a:ea typeface="GungsuhChe"/>
              </a:rPr>
              <a:t>You give me strength to seek out the narrow road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DFKai-SB"/>
                <a:ea typeface="DFKai-SB"/>
              </a:rPr>
              <a:t>將愛完全 讓我心一無畏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  <a:ea typeface="GungsuhChe"/>
              </a:rPr>
              <a:t>My love complete, help me cast aside my fear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DFKai-SB"/>
                <a:ea typeface="DFKai-SB"/>
              </a:rPr>
              <a:t>我靈穩妥 因祢與我同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  <a:ea typeface="GungsuhChe"/>
              </a:rPr>
              <a:t>With You I'm safe; with You I'm not alone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5"/>
          <p:cNvSpPr/>
          <p:nvPr/>
        </p:nvSpPr>
        <p:spPr>
          <a:xfrm>
            <a:off x="0" y="6361560"/>
            <a:ext cx="15692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副标题 3074"/>
          <p:cNvSpPr/>
          <p:nvPr/>
        </p:nvSpPr>
        <p:spPr>
          <a:xfrm>
            <a:off x="0" y="6381720"/>
            <a:ext cx="914364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0" y="6381720"/>
            <a:ext cx="914364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60" name="文本框 3"/>
          <p:cNvSpPr/>
          <p:nvPr/>
        </p:nvSpPr>
        <p:spPr>
          <a:xfrm>
            <a:off x="6950160" y="6382440"/>
            <a:ext cx="24343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有祢同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3/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4"/>
          <p:cNvSpPr/>
          <p:nvPr/>
        </p:nvSpPr>
        <p:spPr>
          <a:xfrm>
            <a:off x="0" y="692640"/>
            <a:ext cx="9143640" cy="57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DFKai-SB"/>
                <a:ea typeface="DFKai-SB"/>
              </a:rPr>
              <a:t>每當我轉向祢 祢已在這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  <a:ea typeface="GungsuhChe"/>
              </a:rPr>
              <a:t>Lord, when I turn to You, You have turned to me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DFKai-SB"/>
                <a:ea typeface="DFKai-SB"/>
              </a:rPr>
              <a:t>每當我親近祢 祢就與我親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GungsuhChe"/>
              </a:rPr>
              <a:t>When I draw close to You, Already You've drawn clo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DFKai-SB"/>
                <a:ea typeface="DFKai-SB"/>
              </a:rPr>
              <a:t>我尚未求告 祢已應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  <a:ea typeface="GungsuhChe"/>
              </a:rPr>
              <a:t>When my pray'rs are but thoughts, You've answered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DFKai-SB"/>
                <a:ea typeface="DFKai-SB"/>
              </a:rPr>
              <a:t>使我喜樂滿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  <a:ea typeface="GungsuhChe"/>
              </a:rPr>
              <a:t>In You my joy o'erflows!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副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3"/>
          <p:cNvSpPr/>
          <p:nvPr/>
        </p:nvSpPr>
        <p:spPr>
          <a:xfrm>
            <a:off x="6971760" y="6402240"/>
            <a:ext cx="21625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有祢同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4/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4"/>
          <p:cNvSpPr/>
          <p:nvPr/>
        </p:nvSpPr>
        <p:spPr>
          <a:xfrm>
            <a:off x="0" y="765000"/>
            <a:ext cx="9143640" cy="53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DFKai-SB"/>
                <a:ea typeface="DFKai-SB"/>
              </a:rPr>
              <a:t>有祢同行 勝過千萬人同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  <a:ea typeface="GungsuhChe"/>
              </a:rPr>
              <a:t>Though few the friends on this way I choose to go,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DFKai-SB"/>
                <a:ea typeface="DFKai-SB"/>
              </a:rPr>
              <a:t>有祢同行 我能勇敢走窄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  <a:ea typeface="GungsuhChe"/>
              </a:rPr>
              <a:t>You give me strength to seek out the narrow road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DFKai-SB"/>
                <a:ea typeface="DFKai-SB"/>
              </a:rPr>
              <a:t>愛既完全 將一切懼怕除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  <a:ea typeface="GungsuhChe"/>
              </a:rPr>
              <a:t>My love's complete, and my heart is free of fear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DFKai-SB"/>
                <a:ea typeface="DFKai-SB"/>
              </a:rPr>
              <a:t>我靈穩妥 因祢與我同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  <a:ea typeface="GungsuhChe"/>
              </a:rPr>
              <a:t>With You I'm safe; with You I'm not alone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5"/>
          <p:cNvSpPr/>
          <p:nvPr/>
        </p:nvSpPr>
        <p:spPr>
          <a:xfrm>
            <a:off x="0" y="6361560"/>
            <a:ext cx="15692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3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副标题 3074"/>
          <p:cNvSpPr/>
          <p:nvPr/>
        </p:nvSpPr>
        <p:spPr>
          <a:xfrm>
            <a:off x="0" y="6381720"/>
            <a:ext cx="914364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默认设计模板">
  <a:themeElements>
    <a:clrScheme name="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9edee"/>
      </a:accent5>
      <a:accent6>
        <a:srgbClr val="2d2d89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  <Words>444</Words>
  <Paragraphs>7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13T07:18:00Z</dcterms:created>
  <dc:creator>Administrator</dc:creator>
  <dc:description/>
  <dc:language>en-US</dc:language>
  <cp:lastModifiedBy>Wendy Liu</cp:lastModifiedBy>
  <dcterms:modified xsi:type="dcterms:W3CDTF">2023-10-28T05:15:17Z</dcterms:modified>
  <cp:revision>13</cp:revision>
  <dc:subject/>
  <dc:title>_x005F_x000b_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FC17D9D53E2446AFAA3B231C385A6FFD_12</vt:lpwstr>
  </property>
  <property fmtid="{D5CDD505-2E9C-101B-9397-08002B2CF9AE}" pid="3" name="KSOProductBuildVer">
    <vt:lpwstr>2052-11.1.0.14036</vt:lpwstr>
  </property>
  <property fmtid="{D5CDD505-2E9C-101B-9397-08002B2CF9AE}" pid="4" name="PresentationFormat">
    <vt:lpwstr>On-screen Show (4:3)</vt:lpwstr>
  </property>
  <property fmtid="{D5CDD505-2E9C-101B-9397-08002B2CF9AE}" pid="5" name="Slides">
    <vt:r8>5</vt:r8>
  </property>
</Properties>
</file>