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8CE-0601-4236-A8D2-5B016BB2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BE3-8726-4392-A6CC-E1CF1B2D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04A-1546-4E3A-A5C4-C0029188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A53-B85D-416B-906B-2F305A3F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DA9-98D5-486C-AC48-F043FE4E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CF8-B305-4DC6-8058-96CE4A18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0A0-B735-492D-8E5A-424E5224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42B-E380-49AB-9B61-75C6DDA2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F63-9550-4D93-8860-7FD5B175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760-EE47-4947-81CE-F857FF3F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CCD-1609-4816-B3BF-75D38D59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61C-DB3B-4D83-B014-6DBB564A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D64453F-6BA2-4B2D-9440-91357FECC1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開我眼睛 看見祢就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將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  <a:ea typeface="宋体"/>
              </a:rPr>
              <a:t>我的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愛完全 讓我心一無畏懼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837000"/>
            <a:ext cx="9143640" cy="53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轉向祢 祢已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親近祢 祢就與我親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尚未求告 祢已應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使我喜樂滿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愛既完全 將一切懼怕除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264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36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