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是誰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是誰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是誰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30:00Z</dcterms:modified>
  <cp:revision>25</cp:revision>
  <dc:subject/>
  <dc:title>是誰</dc:title>
</cp:coreProperties>
</file>