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8A3-C0D1-4490-9845-652877E0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745-4329-43E8-B370-7F09ABD6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460-9D8C-434C-B8B2-4D667D69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2C1-8531-497F-A0FB-DC47F1FE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ECE-A79F-4985-BBF4-FD1EDF25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068-73AB-4551-8D86-7406B52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DE8-4DE7-4CA9-BDF3-2E9659C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6BF-D897-4439-8E85-ECF626FE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3A0-90E3-4DCC-A72B-0D5E9A4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C9E-D1A1-413B-B970-C829352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D16-1293-4F28-A891-0243EEA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174-0F59-44B1-AC8F-4ACFD236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1A25-0FA4-4689-A44E-5C61297B66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是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是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是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是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是谁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4:37Z</dcterms:modified>
  <cp:revision>4</cp:revision>
  <dc:subject/>
  <dc:title>幻灯片 1</dc:title>
</cp:coreProperties>
</file>