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<Relationship Id="rId9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23-04-14T17:02:48.816000000" idx="1">
    <p:pos x="5758" y="36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5B39-120B-4624-98F0-62C30991A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9E9A-250A-4997-B145-8C9A9221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4353-EB12-4BF4-87E5-D7BB90D9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F081-C59B-4568-9F93-D12C000E0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0C64-26AC-406E-92A4-F97C96FF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9542-2632-4C10-A746-C58D199B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A078-79D6-4215-930D-E0A3641E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FAFD-079F-4B4B-BCF3-40041FFA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4D42-D4D7-4E2B-80C0-BE01121C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5FB6-A910-4FC9-B46D-0217B494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CF3D-B31D-4107-B463-05B05BD2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96FB-72C9-4468-9BDC-A1D3AABF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E58F8441-8535-4F02-AC52-1781BEB2F7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0" y="548640"/>
            <a:ext cx="914292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9000" spc="-1" strike="noStrike">
                <a:solidFill>
                  <a:srgbClr val="000000"/>
                </a:solidFill>
                <a:latin typeface="DFKai-SB"/>
                <a:ea typeface="DFKai-SB"/>
              </a:rPr>
              <a:t>新郎的呼喚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0" y="2265840"/>
            <a:ext cx="9143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English Lyrics: Steven Nga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6" name="文本框 2"/>
          <p:cNvSpPr/>
          <p:nvPr/>
        </p:nvSpPr>
        <p:spPr>
          <a:xfrm>
            <a:off x="0" y="2061360"/>
            <a:ext cx="91393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DFKai-SB"/>
                <a:ea typeface="DFKai-SB"/>
              </a:rPr>
              <a:t>SONG OF THE BRIDEGROOM (JOIN M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0" y="405000"/>
            <a:ext cx="9142200" cy="54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與我一同坐在天上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Join Me; let us rule the heave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與我行走在水面上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Join Me; let us walk on wa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與我形影不離 心心相印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Join Me; lover dearest, one in spiri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合而為一 成為一靈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Let us be one. Perfectly o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3"/>
          <p:cNvSpPr/>
          <p:nvPr/>
        </p:nvSpPr>
        <p:spPr>
          <a:xfrm>
            <a:off x="6665040" y="6382440"/>
            <a:ext cx="24786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的呼喚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6" name="文本框 4"/>
          <p:cNvSpPr/>
          <p:nvPr/>
        </p:nvSpPr>
        <p:spPr>
          <a:xfrm>
            <a:off x="0" y="405000"/>
            <a:ext cx="9142200" cy="54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與祢一同坐在天上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With You, I can rule the heave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與祢行走在水面上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With You, I can walk on wa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與祢形影不離 心心相印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With You, lover dearest, one in spiri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合而為一 成為一靈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We shall be one. Perfectly o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</a:t>
            </a:r>
            <a:r>
              <a:rPr b="1" lang="zh-TW" sz="2500" spc="-1" strike="noStrike">
                <a:solidFill>
                  <a:schemeClr val="accent4"/>
                </a:solidFill>
                <a:latin typeface="楷体"/>
                <a:ea typeface="楷体"/>
              </a:rPr>
              <a:t>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3"/>
          <p:cNvSpPr/>
          <p:nvPr/>
        </p:nvSpPr>
        <p:spPr>
          <a:xfrm>
            <a:off x="6665040" y="6382440"/>
            <a:ext cx="24786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的呼喚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4"/>
          <p:cNvSpPr/>
          <p:nvPr/>
        </p:nvSpPr>
        <p:spPr>
          <a:xfrm>
            <a:off x="-22320" y="332640"/>
            <a:ext cx="9134280" cy="59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祢與我 我與祢 啊</a:t>
            </a:r>
            <a:r>
              <a:rPr b="0" lang="en-US" sz="5100" spc="-1" strike="noStrike">
                <a:solidFill>
                  <a:srgbClr val="000000"/>
                </a:solidFill>
                <a:latin typeface="DFKai-SB"/>
                <a:ea typeface="DFKai-SB"/>
              </a:rPr>
              <a:t>~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You and me, You and m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, aa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祢與我 我與祢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You and me, You and m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一同坐在天上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We shall rule the heaven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行走在水面上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We shall walk on wa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6665040" y="6382440"/>
            <a:ext cx="24786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的呼喚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</a:t>
            </a:r>
            <a:r>
              <a:rPr b="1" lang="zh-TW" sz="2500" spc="-1" strike="noStrike">
                <a:solidFill>
                  <a:schemeClr val="accent4"/>
                </a:solidFill>
                <a:latin typeface="楷体"/>
                <a:ea typeface="楷体"/>
              </a:rPr>
              <a:t>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67" name="文本框 4"/>
          <p:cNvSpPr/>
          <p:nvPr/>
        </p:nvSpPr>
        <p:spPr>
          <a:xfrm>
            <a:off x="0" y="405000"/>
            <a:ext cx="9142200" cy="54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我願意 主 我願意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You and me, Lord, You and m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與祢同去 永不分離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Walking with You endless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祢在哪裏 願我也在那裏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(2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Where You may go, I will follow Your lead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GungsuhChe"/>
              </a:rPr>
              <a:t> (2X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永不分離 永不分離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Endlessly, endless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</a:t>
            </a:r>
            <a:r>
              <a:rPr b="1" lang="zh-TW" sz="2500" spc="-1" strike="noStrike">
                <a:solidFill>
                  <a:schemeClr val="accent4"/>
                </a:solidFill>
                <a:latin typeface="楷体"/>
                <a:ea typeface="楷体"/>
              </a:rPr>
              <a:t>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3"/>
          <p:cNvSpPr/>
          <p:nvPr/>
        </p:nvSpPr>
        <p:spPr>
          <a:xfrm>
            <a:off x="6665040" y="6382440"/>
            <a:ext cx="24786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的呼喚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  <Words>374</Words>
  <Paragraphs>8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5:54Z</dcterms:modified>
  <cp:revision>17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5</vt:r8>
  </property>
</Properties>
</file>